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E197-7B35-402F-AA14-4A85AD4E9EF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F5DC-111E-4E88-A0D6-8E686867E47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514-6D49-4134-A2EA-F2A0D7BB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54B-04CA-4088-BE57-865B525B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E19-ABF6-463F-BA29-736D9135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319-86A5-4B46-8014-9EE591AC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267-3DD4-49D4-BC27-5E4E2DB9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41F-68D2-4756-9083-71A1D34F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B1C-6B7A-4B53-BAB9-40AA6AB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7A6-BB5D-4BE5-A655-6952AD6D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67D-8E1D-4D00-BA94-18DE9491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3D0-9C86-495D-B8FB-5DD0269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F45-9994-4E4B-8A24-15D05FEB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F7A-5407-4319-8FBC-298750DD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80BF-598B-41A1-BCD9-D8A92F0F033D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4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2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re project manag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539640" y="1844640"/>
            <a:ext cx="77155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dd a second application project to our Workspac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dd new Batch Builds to handle the different application projects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ing pre/post-build to automate the buil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Get our web pages re-comp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xtending the Embedded Workbench tool chain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bout header include files in EWAR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642960" y="549360"/>
            <a:ext cx="7889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re Batch Builds to our Work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551520" y="2205000"/>
            <a:ext cx="27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3485160" y="2949480"/>
            <a:ext cx="185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 1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 2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5577480" y="2205000"/>
            <a:ext cx="27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3476520" y="2949480"/>
            <a:ext cx="186876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5591160" y="2949480"/>
            <a:ext cx="261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591160" y="2924280"/>
            <a:ext cx="261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1"/>
          <p:cNvSpPr/>
          <p:nvPr/>
        </p:nvSpPr>
        <p:spPr>
          <a:xfrm>
            <a:off x="5577480" y="2924280"/>
            <a:ext cx="279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3495600" y="3309840"/>
            <a:ext cx="186840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4"/>
          <p:cNvSpPr/>
          <p:nvPr/>
        </p:nvSpPr>
        <p:spPr>
          <a:xfrm>
            <a:off x="3492360" y="3597120"/>
            <a:ext cx="1866960" cy="33660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3492360" y="3957480"/>
            <a:ext cx="186696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16680" y="1773360"/>
            <a:ext cx="84074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– Configuration       Batch Build                Project-Configuration buil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ight Arrow 12"/>
          <p:cNvSpPr/>
          <p:nvPr/>
        </p:nvSpPr>
        <p:spPr>
          <a:xfrm>
            <a:off x="4819680" y="1773360"/>
            <a:ext cx="544320" cy="36828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bfbfbf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9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539640" y="1700280"/>
            <a:ext cx="77155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You can add both pre- and post-build actions to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For MQX libraries we already use 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post-build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to copy 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files to a specific lo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For our web server application we will create a 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pre-build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action that will convert web pages to C arrays that we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include when building our projec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For this we will make a modified version of the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mktfs.bat bat file that comes with MQ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mktfs.bat calles the MQX tool mktfs.exe to convert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web pages into C arrys in the file tfs_data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2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pre-bu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539640" y="1484280"/>
            <a:ext cx="4537080" cy="156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REM  *** mktfsEW.bat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cd %1\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..\..\..\tools\mktfs.exe web_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558360" y="3395520"/>
            <a:ext cx="4885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$PROJ_DIR$\..\mktfsEW.bat" "$PROJ_DIR$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ular Callout 2"/>
          <p:cNvSpPr/>
          <p:nvPr/>
        </p:nvSpPr>
        <p:spPr>
          <a:xfrm>
            <a:off x="6227640" y="1628640"/>
            <a:ext cx="2521080" cy="1295640"/>
          </a:xfrm>
          <a:prstGeom prst="wedgeRoundRectCallout">
            <a:avLst>
              <a:gd name="adj1" fmla="val -126972"/>
              <a:gd name="adj2" fmla="val -17523"/>
              <a:gd name="adj3" fmla="val 16667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our bat file that we call from the IDE’s pre-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ular Callout 6"/>
          <p:cNvSpPr/>
          <p:nvPr/>
        </p:nvSpPr>
        <p:spPr>
          <a:xfrm>
            <a:off x="6227640" y="3068640"/>
            <a:ext cx="2521080" cy="865080"/>
          </a:xfrm>
          <a:prstGeom prst="wedgeRoundRectCallout">
            <a:avLst>
              <a:gd name="adj1" fmla="val -86898"/>
              <a:gd name="adj2" fmla="val 4587"/>
              <a:gd name="adj3" fmla="val 16667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command line we use in pre-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365760" y="4221000"/>
            <a:ext cx="8363160" cy="201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PROJ_DIR$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 EWARM IDE variable that expands to the location of the current projec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TOOLKIT_DIR$ - Embedded Workbench installation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XE_DIR$ - the directory for executabl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ore available!. See the EWARM IDE guide, section “Argument variabl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tending the tool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39640" y="1700280"/>
            <a:ext cx="771552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AR Embedded Workbench provides a feature—Custom Build—which lets you extend the standard toolch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feature is used for executing external tools and you can make these tools execute each time specific files in your project hav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option is, if used, specified for each project and is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setup in: 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Project options -&gt; Custom Build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could use this tool to create C arrays from HTML fi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we did, then we could just add a HTML file to our pro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e and this custom build tool would generate the C arr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the C files are compi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642960" y="549360"/>
            <a:ext cx="76122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About the Workspace project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539640" y="1700280"/>
            <a:ext cx="7715520" cy="7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Header files added to the project tree are not included in the bui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539640" y="2666880"/>
            <a:ext cx="7715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e compiler and assembler will only search the standar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nclude directories, plus the additional directories specifie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n the their “Preprocessor”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642960" y="3789360"/>
            <a:ext cx="4856040" cy="2160720"/>
          </a:xfrm>
          <a:prstGeom prst="rect">
            <a:avLst/>
          </a:prstGeom>
          <a:ln w="0">
            <a:noFill/>
          </a:ln>
        </p:spPr>
      </p:pic>
      <p:sp>
        <p:nvSpPr>
          <p:cNvPr id="556" name="Rounded Rectangular Callout 1"/>
          <p:cNvSpPr/>
          <p:nvPr/>
        </p:nvSpPr>
        <p:spPr>
          <a:xfrm>
            <a:off x="4397400" y="5157720"/>
            <a:ext cx="4443480" cy="792360"/>
          </a:xfrm>
          <a:prstGeom prst="wedgeRoundRectCallout">
            <a:avLst>
              <a:gd name="adj1" fmla="val -75763"/>
              <a:gd name="adj2" fmla="val -22925"/>
              <a:gd name="adj3" fmla="val 16667"/>
            </a:avLst>
          </a:prstGeom>
          <a:solidFill>
            <a:srgbClr val="ffee7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m.h might, or might not, be used during the bu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ular Callout 7"/>
          <p:cNvSpPr/>
          <p:nvPr/>
        </p:nvSpPr>
        <p:spPr>
          <a:xfrm>
            <a:off x="5292720" y="4221000"/>
            <a:ext cx="3548160" cy="792360"/>
          </a:xfrm>
          <a:prstGeom prst="wedgeRoundRectCallout">
            <a:avLst>
              <a:gd name="adj1" fmla="val -139675"/>
              <a:gd name="adj2" fmla="val 51162"/>
              <a:gd name="adj3" fmla="val 16667"/>
            </a:avLst>
          </a:prstGeom>
          <a:solidFill>
            <a:srgbClr val="ffee7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the cm.h used, expand cm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9" name="Title 1"/>
          <p:cNvSpPr/>
          <p:nvPr/>
        </p:nvSpPr>
        <p:spPr>
          <a:xfrm>
            <a:off x="539640" y="404640"/>
            <a:ext cx="820908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ff9900"/>
                </a:solidFill>
                <a:latin typeface="Gill Sans MT"/>
              </a:rPr>
              <a:t>About MQX projects and user_config.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0" y="1700280"/>
            <a:ext cx="39607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e careful if you add header file to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In most cases this is not a good idea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16360" cy="21556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566640" y="4149720"/>
            <a:ext cx="79660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For MQX libraries, adding user_config.h is a great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is because user_config.h is being copied to new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locations and it is easy to modify the wrong user_config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4:12Z</dcterms:modified>
  <cp:revision>214</cp:revision>
  <dc:subject/>
  <dc:title>Slide 1</dc:title>
</cp:coreProperties>
</file>