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4053-62A1-4227-A272-71EDBB0A0D6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662-43B1-4FA9-BDDE-E54DA8268F6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D43-6E5E-4D05-9BD9-9C7CE8BB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0F5-D780-4BE9-9452-2D0CA02F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FAB-C93E-4C0C-932C-E2F07ECC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13D-36AD-4BFF-BFF7-7084B0C2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7A3-870C-44D3-9BB5-37494558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0E0-06F5-4AD5-9127-29565619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4EA-40FD-4612-8CAA-E66BA1F8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AD4-CE41-4D73-8153-B66C8EC5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806-168C-4931-B7FF-C7F86D1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1AA-08BB-4E54-B3B9-9C42978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DA4-1BBC-42E5-AB01-E1D0BB2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3E6-5D01-47F4-8976-CD1BE042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FAD7-64D7-49D2-9BAA-AA6AAA5889F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2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333360"/>
            <a:ext cx="695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difying the stdio communication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636480" y="1803240"/>
            <a:ext cx="78231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QX applications two configuration files needs to be modi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_config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rk60n512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_config.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CFG_ENABLE_IODEBUG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wrk60n512.h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   "iodebug: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_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642960" y="1865160"/>
            <a:ext cx="7715160" cy="51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Manually build each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”Batch build” to build a set of predefined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All EWARM MQX library projects have a set of predefin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atch bui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libraries for debug and releas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Debug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debug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Release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relea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5" name="Title 1"/>
          <p:cNvSpPr/>
          <p:nvPr/>
        </p:nvSpPr>
        <p:spPr>
          <a:xfrm>
            <a:off x="468360" y="260280"/>
            <a:ext cx="58579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68360" y="1700280"/>
            <a:ext cx="8032680" cy="11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generated library and header files are copied to “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done with the post-build command in EW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712800" y="3078000"/>
            <a:ext cx="522756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1"/>
          <p:cNvSpPr/>
          <p:nvPr/>
        </p:nvSpPr>
        <p:spPr>
          <a:xfrm>
            <a:off x="755640" y="1989000"/>
            <a:ext cx="1944720" cy="360360"/>
          </a:xfrm>
          <a:prstGeom prst="rect">
            <a:avLst/>
          </a:prstGeom>
          <a:solidFill>
            <a:srgbClr val="ffee74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755640" y="3213000"/>
            <a:ext cx="1944720" cy="360360"/>
          </a:xfrm>
          <a:prstGeom prst="rect">
            <a:avLst/>
          </a:prstGeom>
          <a:solidFill>
            <a:srgbClr val="dcdfe3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755640" y="3573360"/>
            <a:ext cx="1944720" cy="172728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755640" y="5732640"/>
            <a:ext cx="1944720" cy="36036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4259880" y="3716280"/>
            <a:ext cx="4138560" cy="916920"/>
          </a:xfrm>
          <a:prstGeom prst="rect">
            <a:avLst/>
          </a:prstGeom>
          <a:solidFill>
            <a:srgbClr val="f19e9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we have the EWARM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and this is the location w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t MQX modules will be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0"/>
          <p:cNvSpPr/>
          <p:nvPr/>
        </p:nvSpPr>
        <p:spPr>
          <a:xfrm>
            <a:off x="4238640" y="5168880"/>
            <a:ext cx="4181400" cy="916920"/>
          </a:xfrm>
          <a:prstGeom prst="rect">
            <a:avLst/>
          </a:prstGeom>
          <a:solidFill>
            <a:srgbClr val="dcdfe3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dule is built, then that libr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eader files will be copied to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lib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1"/>
          <p:cNvSpPr/>
          <p:nvPr/>
        </p:nvSpPr>
        <p:spPr>
          <a:xfrm>
            <a:off x="4238640" y="1989000"/>
            <a:ext cx="4181400" cy="1191240"/>
          </a:xfrm>
          <a:prstGeom prst="rect">
            <a:avLst/>
          </a:prstGeom>
          <a:solidFill>
            <a:srgbClr val="f9e18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where the EWARM MQ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Workspace is located toget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different build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own Arrow 3"/>
          <p:cNvSpPr/>
          <p:nvPr/>
        </p:nvSpPr>
        <p:spPr>
          <a:xfrm>
            <a:off x="8244000" y="2924280"/>
            <a:ext cx="431640" cy="10094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3"/>
          <p:cNvSpPr/>
          <p:nvPr/>
        </p:nvSpPr>
        <p:spPr>
          <a:xfrm>
            <a:off x="8244000" y="450864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1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atch bui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42960" y="1557360"/>
            <a:ext cx="7715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create any number of your own batch bui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250920" y="1979640"/>
            <a:ext cx="5592600" cy="40417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1"/>
          <p:cNvSpPr/>
          <p:nvPr/>
        </p:nvSpPr>
        <p:spPr>
          <a:xfrm>
            <a:off x="6227640" y="2421000"/>
            <a:ext cx="252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Batch buil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6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EWARM and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and its differe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The MQX libr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EWARM Workspace for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build and project options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Freescale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46836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scale MQX Real-Time Operating Syst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vides real-time performance within a small, configurable foot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is a run-time library of functions that programs use to be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multi-tasking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main features are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-orien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itecture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suppor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s and can be used with flexible embedded I/O product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1773360"/>
            <a:ext cx="7715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SMQX contains of, among other things,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a set of libraries with their own A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SP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oard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SP,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rocessor 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RTC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CP/IP stack (Communication Su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MF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 for RT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D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device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H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3" name="TextBox 1"/>
          <p:cNvSpPr/>
          <p:nvPr/>
        </p:nvSpPr>
        <p:spPr>
          <a:xfrm>
            <a:off x="3231000" y="1989000"/>
            <a:ext cx="459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s, mqx, rtcs, shell and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olders contain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urce code for the different modu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ampl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jects to build the module and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cumentation for the API’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ference manu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etting started guid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5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3230640" y="1989000"/>
            <a:ext cx="528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orkspace and configuration files to buil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your MQX librarie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ocation where built libraries and head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iles are copied to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rious tools that can be usefu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for example tools to convert HTML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to C ar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404640"/>
            <a:ext cx="5857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brary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95280" y="1722600"/>
            <a:ext cx="77151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config\&lt;board&gt;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WARM Workspace file (*.ew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user_config.h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t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opied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ibraries are built with or without debug inform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out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 debug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_d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3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636480" y="1803240"/>
            <a:ext cx="782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time configuration of all key Freescale MQX RTOS components (PSP, BSP, RTCS, MFS, USB, ...) is accomplished by editing the user_config.h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user_config.h includes other *_config.h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only modify the channel used for stdio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UART is used, and we will change that to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bugger communication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6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636480" y="1803240"/>
            <a:ext cx="782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user_config.h requires that the  used MQ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ies are rebui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MQX User Guide for fine tu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 Configuring MQX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1 MQX Compile-Time Configur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2 Recommended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42Z</dcterms:modified>
  <cp:revision>224</cp:revision>
  <dc:subject/>
  <dc:title>Slide 1</dc:title>
</cp:coreProperties>
</file>