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move the slide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6F4E-0262-44A7-B945-2682C50BB84B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3379-2DEF-4CE9-A572-FFA8D2EBBCE4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4403-4937-43E9-8B88-0D2E12756B5E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tshållare för bildnumm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B8CC-FBDF-4E68-972B-1BEA01F5931C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2A56-57D4-468B-8B27-56D53A5C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A515-BA40-4046-937B-F7D43A32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4274-E6FD-4787-839B-DB379CAE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94D-3AAD-400D-94E9-95EDA0EB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5AB7-B994-4E6E-B199-2650E886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C775-1A2B-4D99-88CA-D9898388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BD25-20AC-4A86-A16D-ED0D64AC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467C-2A33-4940-9836-51CC0D85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9DC0-AF49-497A-877F-B842FA44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E60D-9F93-4D94-BBE5-17286492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560F-D1BF-468F-97EE-D96633C5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FCB0-8B69-4049-AFAF-8E1F6C20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94BC-22C9-493B-8D60-743982F7F077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Start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9" descr="Start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3716280"/>
            <a:ext cx="6912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Gill Sans MT"/>
              </a:rPr>
              <a:t>Cortex-M4 Kinetis</a:t>
            </a:r>
            <a:br>
              <a:rPr sz="2800"/>
            </a:br>
            <a:r>
              <a:rPr b="0" lang="sv-SE" sz="2800" spc="-1" strike="noStrike">
                <a:solidFill>
                  <a:srgbClr val="ffffff"/>
                </a:solidFill>
                <a:latin typeface="Gill Sans MT"/>
              </a:rPr>
              <a:t>Project Development</a:t>
            </a:r>
            <a:endParaRPr b="0" lang="en-US" sz="28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20" name="Title 1"/>
          <p:cNvSpPr/>
          <p:nvPr/>
        </p:nvSpPr>
        <p:spPr>
          <a:xfrm>
            <a:off x="642960" y="5000760"/>
            <a:ext cx="57150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Gill Sans MT"/>
              </a:rPr>
              <a:t>Mats Pettersson, Sr. FAE IAR Systems 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51" name="Title 1"/>
          <p:cNvSpPr/>
          <p:nvPr/>
        </p:nvSpPr>
        <p:spPr>
          <a:xfrm>
            <a:off x="324000" y="345960"/>
            <a:ext cx="68403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9900"/>
                </a:solidFill>
                <a:latin typeface="Gill Sans MT"/>
              </a:rPr>
              <a:t>Workspace and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250920" y="2133720"/>
            <a:ext cx="7715160" cy="40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e top level we work in is the </a:t>
            </a:r>
            <a:r>
              <a:rPr b="1" lang="en-US" sz="2000" spc="-1" strike="noStrike">
                <a:solidFill>
                  <a:srgbClr val="808080"/>
                </a:solidFill>
                <a:latin typeface="Gill Sans MT"/>
              </a:rPr>
              <a:t>Work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Each Workspace can contain zero or more </a:t>
            </a:r>
            <a:r>
              <a:rPr b="1" lang="sv-SE" sz="2000" spc="-1" strike="noStrike">
                <a:solidFill>
                  <a:srgbClr val="808080"/>
                </a:solidFill>
                <a:latin typeface="Gill Sans MT"/>
              </a:rPr>
              <a:t>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ach project have one or more </a:t>
            </a:r>
            <a:r>
              <a:rPr b="1" lang="en-US" sz="2000" spc="-1" strike="noStrike">
                <a:solidFill>
                  <a:srgbClr val="808080"/>
                </a:solidFill>
                <a:latin typeface="Gill Sans MT"/>
              </a:rPr>
              <a:t>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A Workspace can co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  <a:ea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Projects of the same or different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  <a:ea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Executable and library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80808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ach project 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  <a:ea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Sets its own unique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  <a:ea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Specifies what groups/files to include in the bui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"/>
          <p:cNvPicPr/>
          <p:nvPr/>
        </p:nvPicPr>
        <p:blipFill>
          <a:blip r:embed="rId2"/>
          <a:stretch/>
        </p:blipFill>
        <p:spPr>
          <a:xfrm>
            <a:off x="2352600" y="1382760"/>
            <a:ext cx="4981680" cy="4851360"/>
          </a:xfrm>
          <a:prstGeom prst="rect">
            <a:avLst/>
          </a:prstGeom>
          <a:ln w="0">
            <a:noFill/>
          </a:ln>
        </p:spPr>
      </p:pic>
      <p:sp>
        <p:nvSpPr>
          <p:cNvPr id="556" name="Title 1"/>
          <p:cNvSpPr/>
          <p:nvPr/>
        </p:nvSpPr>
        <p:spPr>
          <a:xfrm>
            <a:off x="2352600" y="303120"/>
            <a:ext cx="498168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Gill Sans MT"/>
              </a:rPr>
              <a:t>Project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58" name="Title 1"/>
          <p:cNvSpPr/>
          <p:nvPr/>
        </p:nvSpPr>
        <p:spPr>
          <a:xfrm>
            <a:off x="714240" y="285840"/>
            <a:ext cx="63579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Embedded Workbench </a:t>
            </a:r>
            <a:br>
              <a:rPr sz="4000"/>
            </a:b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Build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9"/>
          <p:cNvSpPr/>
          <p:nvPr/>
        </p:nvSpPr>
        <p:spPr>
          <a:xfrm>
            <a:off x="684360" y="2349360"/>
            <a:ext cx="4824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Using the IAR Embedded Workbe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Easy to get started with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- Intuitive project management 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  and option ha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Using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Widely used and popul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Using command line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Using “Iarbuild.exe” and project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Using MAKE fil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C:\Users\mariegy\AppData\Local\Microsoft\Windows\Temporary Internet Files\Content.IE5\FPBHNXZ2\MPj04428560000[1].jpg"/>
          <p:cNvPicPr/>
          <p:nvPr/>
        </p:nvPicPr>
        <p:blipFill>
          <a:blip r:embed="rId2"/>
          <a:stretch/>
        </p:blipFill>
        <p:spPr>
          <a:xfrm>
            <a:off x="5929200" y="0"/>
            <a:ext cx="3214800" cy="2139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6" descr="C:\Users\mariegy\AppData\Local\Microsoft\Windows\Temporary Internet Files\Content.IE5\82GCCA2N\MPj04430450000[1].jpg"/>
          <p:cNvPicPr/>
          <p:nvPr/>
        </p:nvPicPr>
        <p:blipFill>
          <a:blip r:embed="rId3"/>
          <a:stretch/>
        </p:blipFill>
        <p:spPr>
          <a:xfrm>
            <a:off x="5929200" y="2143080"/>
            <a:ext cx="3214800" cy="21398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8" descr="C:\Users\mariegy\AppData\Local\Microsoft\Windows\Temporary Internet Files\Content.IE5\FPBHNXZ2\MPj04007440000[1].jpg"/>
          <p:cNvPicPr/>
          <p:nvPr/>
        </p:nvPicPr>
        <p:blipFill>
          <a:blip r:embed="rId4"/>
          <a:stretch/>
        </p:blipFill>
        <p:spPr>
          <a:xfrm>
            <a:off x="5927760" y="4214880"/>
            <a:ext cx="3216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64" name="Title 1"/>
          <p:cNvSpPr/>
          <p:nvPr/>
        </p:nvSpPr>
        <p:spPr>
          <a:xfrm>
            <a:off x="714240" y="285840"/>
            <a:ext cx="63579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Embedded Workbench </a:t>
            </a:r>
            <a:br>
              <a:rPr sz="4000"/>
            </a:b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Debug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9"/>
          <p:cNvSpPr/>
          <p:nvPr/>
        </p:nvSpPr>
        <p:spPr>
          <a:xfrm>
            <a:off x="684360" y="2349360"/>
            <a:ext cx="4824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Using the IAR Embedded Workbe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Easy to get started with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- Well integrated with many emulators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- Power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Using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Only for EWARM toda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Using command line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Using “IARCspyBat.ex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Excellent for automated test runs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  on HW as well as 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4" descr="C:\Users\mariegy\AppData\Local\Microsoft\Windows\Temporary Internet Files\Content.IE5\FPBHNXZ2\MPj04428560000[1].jpg"/>
          <p:cNvPicPr/>
          <p:nvPr/>
        </p:nvPicPr>
        <p:blipFill>
          <a:blip r:embed="rId2"/>
          <a:stretch/>
        </p:blipFill>
        <p:spPr>
          <a:xfrm>
            <a:off x="5929200" y="0"/>
            <a:ext cx="3214800" cy="21398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C:\Users\mariegy\AppData\Local\Microsoft\Windows\Temporary Internet Files\Content.IE5\82GCCA2N\MPj04430450000[1].jpg"/>
          <p:cNvPicPr/>
          <p:nvPr/>
        </p:nvPicPr>
        <p:blipFill>
          <a:blip r:embed="rId3"/>
          <a:stretch/>
        </p:blipFill>
        <p:spPr>
          <a:xfrm>
            <a:off x="5929200" y="2143080"/>
            <a:ext cx="3214800" cy="21398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8" descr="C:\Users\mariegy\AppData\Local\Microsoft\Windows\Temporary Internet Files\Content.IE5\FPBHNXZ2\MPj04007440000[1].jpg"/>
          <p:cNvPicPr/>
          <p:nvPr/>
        </p:nvPicPr>
        <p:blipFill>
          <a:blip r:embed="rId4"/>
          <a:stretch/>
        </p:blipFill>
        <p:spPr>
          <a:xfrm>
            <a:off x="5927760" y="4214880"/>
            <a:ext cx="3216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9"/>
          <p:cNvSpPr/>
          <p:nvPr/>
        </p:nvSpPr>
        <p:spPr>
          <a:xfrm>
            <a:off x="179280" y="2714760"/>
            <a:ext cx="5616720" cy="35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Start EWA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Load the TSI example project in EW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Change project options to use the P&amp;E debu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Build the “RAM_128KB”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Download and debug your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Run and try the four touch sensors on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Halt the debu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08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itle 1"/>
          <p:cNvSpPr/>
          <p:nvPr/>
        </p:nvSpPr>
        <p:spPr>
          <a:xfrm>
            <a:off x="642960" y="857160"/>
            <a:ext cx="61437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Exercise 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Using EW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9"/>
          <p:cNvSpPr/>
          <p:nvPr/>
        </p:nvSpPr>
        <p:spPr>
          <a:xfrm>
            <a:off x="179280" y="2714760"/>
            <a:ext cx="5616720" cy="22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Have a closer look a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The debugger ‘View’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Arranging Windows and 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Editor pop-up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Debug Log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Exit the debu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itle 1"/>
          <p:cNvSpPr/>
          <p:nvPr/>
        </p:nvSpPr>
        <p:spPr>
          <a:xfrm>
            <a:off x="642960" y="857160"/>
            <a:ext cx="61437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Exercise 1 (cont...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Using EW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9"/>
          <p:cNvSpPr/>
          <p:nvPr/>
        </p:nvSpPr>
        <p:spPr>
          <a:xfrm>
            <a:off x="179280" y="2714760"/>
            <a:ext cx="561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Different variants of </a:t>
            </a:r>
            <a:r>
              <a:rPr b="1" lang="en-US" sz="2000" spc="-1" strike="noStrike">
                <a:solidFill>
                  <a:srgbClr val="595d63"/>
                </a:solidFill>
                <a:latin typeface="Gill Sans MT"/>
              </a:rPr>
              <a:t>prin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By default the Kinetis examples are setup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the serial port for print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If you like to use the built in Terminal IO Window</a:t>
            </a:r>
            <a:br>
              <a:rPr sz="2000"/>
            </a:b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in EWARM, then you just need to remove/exclude</a:t>
            </a:r>
            <a:br>
              <a:rPr sz="2000"/>
            </a:b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printf.c from you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itle 1"/>
          <p:cNvSpPr/>
          <p:nvPr/>
        </p:nvSpPr>
        <p:spPr>
          <a:xfrm>
            <a:off x="642960" y="857160"/>
            <a:ext cx="61437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Exercise 1 (cont...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Using EW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82" name="Title 1"/>
          <p:cNvSpPr/>
          <p:nvPr/>
        </p:nvSpPr>
        <p:spPr>
          <a:xfrm>
            <a:off x="642960" y="857160"/>
            <a:ext cx="58579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Hands-on sess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itle 1"/>
          <p:cNvSpPr/>
          <p:nvPr/>
        </p:nvSpPr>
        <p:spPr>
          <a:xfrm>
            <a:off x="642960" y="857160"/>
            <a:ext cx="642924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ffff"/>
                </a:solidFill>
                <a:latin typeface="Gill Sans MT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0" descr="blå2.jpg"/>
          <p:cNvPicPr/>
          <p:nvPr/>
        </p:nvPicPr>
        <p:blipFill>
          <a:blip r:embed="rId1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Title 1"/>
          <p:cNvSpPr/>
          <p:nvPr/>
        </p:nvSpPr>
        <p:spPr>
          <a:xfrm>
            <a:off x="642960" y="2071800"/>
            <a:ext cx="5715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Prepare for the training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About Freescale MQ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About IAR Embedded Workbe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25" name="Title 1"/>
          <p:cNvSpPr/>
          <p:nvPr/>
        </p:nvSpPr>
        <p:spPr>
          <a:xfrm>
            <a:off x="714240" y="285840"/>
            <a:ext cx="635796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Prepa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"/>
          <p:cNvSpPr/>
          <p:nvPr/>
        </p:nvSpPr>
        <p:spPr>
          <a:xfrm>
            <a:off x="250920" y="1484280"/>
            <a:ext cx="8642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 6.40 or newer of Embedded Workbench for ARM (EWARM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editions, except the 32K kickstart limited edition, will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QX v3.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B and Ethernet 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scale Tower kit with the serial module and K60 mod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"/>
          <p:cNvSpPr/>
          <p:nvPr/>
        </p:nvSpPr>
        <p:spPr>
          <a:xfrm>
            <a:off x="576360" y="3884760"/>
            <a:ext cx="7991280" cy="228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EWARM and/or MQX is not installed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start by installing the softwa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will find them both under “Products” on the US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5" descr=""/>
          <p:cNvPicPr/>
          <p:nvPr/>
        </p:nvPicPr>
        <p:blipFill>
          <a:blip r:embed="rId1"/>
          <a:stretch/>
        </p:blipFill>
        <p:spPr>
          <a:xfrm>
            <a:off x="4297320" y="1484280"/>
            <a:ext cx="4749840" cy="47498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6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0" name="Title 1"/>
          <p:cNvSpPr/>
          <p:nvPr/>
        </p:nvSpPr>
        <p:spPr>
          <a:xfrm>
            <a:off x="642960" y="303120"/>
            <a:ext cx="76741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Gill Sans MT"/>
              </a:rPr>
              <a:t>About IAR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569880" y="1916280"/>
            <a:ext cx="788976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orld-leading provider of software development tools for embedded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Gill Sans MT"/>
              </a:rPr>
              <a:t>Founded in 19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About 150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bedded Workbenches support more than 26 archite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From 8- to 32-bit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Easy migration from one target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Largest customer base of development tools in the MCU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10 000+ customers with active support 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92 % recurring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65 % of customers use more than one EW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Gill Sans MT"/>
              </a:rPr>
              <a:t>About IAR Embedded Workbench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pic>
        <p:nvPicPr>
          <p:cNvPr id="533" name="Group 117" descr=""/>
          <p:cNvPicPr/>
          <p:nvPr/>
        </p:nvPicPr>
        <p:blipFill>
          <a:blip r:embed="rId1"/>
          <a:stretch/>
        </p:blipFill>
        <p:spPr>
          <a:xfrm>
            <a:off x="201600" y="2157480"/>
            <a:ext cx="877104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e8637"/>
                </a:solidFill>
                <a:latin typeface="Gill Sans MT"/>
              </a:rPr>
              <a:t>ARM Core Suppor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718920" y="2057400"/>
            <a:ext cx="225396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A15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A9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A8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A7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A5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R4(F)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M4(F)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M3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M1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M0+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M0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36" name="Content Placeholder 1"/>
          <p:cNvSpPr/>
          <p:nvPr/>
        </p:nvSpPr>
        <p:spPr>
          <a:xfrm>
            <a:off x="2935440" y="2057400"/>
            <a:ext cx="2251080" cy="36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RM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RM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RM9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RM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RM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Secur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Intel X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Content Placeholder 1"/>
          <p:cNvSpPr/>
          <p:nvPr/>
        </p:nvSpPr>
        <p:spPr>
          <a:xfrm>
            <a:off x="4952880" y="2057400"/>
            <a:ext cx="3503880" cy="36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upport for ARM,  Thumb and Thumb2 processor mo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Support for ARM DSP and SIMD ext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Intrinsic NEON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Generates code for ARM VFP series of floating-point coproc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High-performance C/C++ compiler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42600" y="2500200"/>
            <a:ext cx="399564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Gill Sans MT"/>
              </a:rPr>
              <a:t>Optimizing C/C++ compiler</a:t>
            </a:r>
            <a:endParaRPr b="0" lang="en-US" sz="2600" spc="-1" strike="noStrike">
              <a:solidFill>
                <a:srgbClr val="80808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808080"/>
                </a:solidFill>
                <a:latin typeface="Gill Sans MT"/>
              </a:rPr>
              <a:t>Language standards</a:t>
            </a:r>
            <a:endParaRPr b="0" lang="en-US" sz="26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808080"/>
                </a:solidFill>
                <a:latin typeface="Gill Sans MT"/>
              </a:rPr>
              <a:t>C89 and C99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808080"/>
                </a:solidFill>
                <a:latin typeface="Gill Sans MT"/>
              </a:rPr>
              <a:t>C++ 2003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808080"/>
                </a:solidFill>
                <a:latin typeface="Gill Sans MT"/>
              </a:rPr>
              <a:t>Embedded C++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808080"/>
                </a:solidFill>
                <a:latin typeface="Gill Sans MT"/>
              </a:rPr>
              <a:t>ARM EABI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808080"/>
                </a:solidFill>
                <a:latin typeface="Gill Sans MT"/>
              </a:rPr>
              <a:t>CMSIS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808080"/>
                </a:solidFill>
                <a:latin typeface="Gill Sans MT"/>
              </a:rPr>
              <a:t>IEEE-754 floating point representation</a:t>
            </a:r>
            <a:endParaRPr b="0" lang="en-US" sz="2600" spc="-1" strike="noStrike">
              <a:solidFill>
                <a:srgbClr val="80808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857480" y="2500200"/>
            <a:ext cx="399564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Gill Sans MT"/>
              </a:rPr>
              <a:t>Customizable C/C++ libraries</a:t>
            </a:r>
            <a:endParaRPr b="0" lang="en-US" sz="26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Gill Sans MT"/>
              </a:rPr>
              <a:t>Pre-built and in source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808080"/>
                </a:solidFill>
                <a:latin typeface="Gill Sans MT"/>
              </a:rPr>
              <a:t>Thread safe libraries for multitasking applications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808080"/>
                </a:solidFill>
                <a:latin typeface="Gill Sans MT"/>
              </a:rPr>
              <a:t>CMSIS DSP Library for Cortex-M3/M4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808080"/>
                </a:solidFill>
                <a:latin typeface="Gill Sans MT"/>
              </a:rPr>
              <a:t>Automatic selection of smallest printf/scanf formatter</a:t>
            </a:r>
            <a:endParaRPr b="0" lang="en-US" sz="2600" spc="-1" strike="noStrike">
              <a:solidFill>
                <a:srgbClr val="80808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e8637"/>
                </a:solidFill>
                <a:latin typeface="Gill Sans MT"/>
              </a:rPr>
              <a:t>Comprehensive IAR C-SPY Debugger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42960" y="2500200"/>
            <a:ext cx="354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808080"/>
                </a:solidFill>
                <a:latin typeface="Gill Sans MT"/>
              </a:rPr>
              <a:t>Integrated</a:t>
            </a:r>
            <a:endParaRPr b="0" lang="en-US" sz="1800" spc="-1" strike="noStrike">
              <a:solidFill>
                <a:srgbClr val="808080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808080"/>
                </a:solidFill>
                <a:latin typeface="Gill Sans MT"/>
              </a:rPr>
              <a:t>Fully integrated debugger for source and disassembly debugging</a:t>
            </a:r>
            <a:endParaRPr b="0" lang="en-US" sz="1500" spc="-1" strike="noStrike">
              <a:solidFill>
                <a:srgbClr val="808080"/>
              </a:solidFill>
              <a:latin typeface="Gill Sans MT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808080"/>
                </a:solidFill>
                <a:latin typeface="Gill Sans MT"/>
              </a:rPr>
              <a:t>Simulator</a:t>
            </a:r>
            <a:endParaRPr b="0" lang="en-US" sz="1800" spc="-1" strike="noStrike">
              <a:solidFill>
                <a:srgbClr val="808080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808080"/>
                </a:solidFill>
                <a:latin typeface="Gill Sans MT"/>
              </a:rPr>
              <a:t>Built-in instruction simulator</a:t>
            </a:r>
            <a:endParaRPr b="0" lang="en-US" sz="1500" spc="-1" strike="noStrike">
              <a:solidFill>
                <a:srgbClr val="808080"/>
              </a:solidFill>
              <a:latin typeface="Gill Sans MT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808080"/>
                </a:solidFill>
                <a:latin typeface="Gill Sans MT"/>
              </a:rPr>
              <a:t>Hardware debugging</a:t>
            </a:r>
            <a:endParaRPr b="0" lang="en-US" sz="1800" spc="-1" strike="noStrike">
              <a:solidFill>
                <a:srgbClr val="808080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808080"/>
                </a:solidFill>
                <a:latin typeface="Gill Sans MT"/>
              </a:rPr>
              <a:t>Extensive hardware target system support including JTAG, SWD and ETM</a:t>
            </a:r>
            <a:endParaRPr b="0" lang="en-US" sz="1500" spc="-1" strike="noStrike">
              <a:solidFill>
                <a:srgbClr val="808080"/>
              </a:solidFill>
              <a:latin typeface="Gill Sans MT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808080"/>
                </a:solidFill>
                <a:latin typeface="Gill Sans MT"/>
              </a:rPr>
              <a:t>RTOS awareness</a:t>
            </a:r>
            <a:endParaRPr b="0" lang="en-US" sz="1800" spc="-1" strike="noStrike">
              <a:solidFill>
                <a:srgbClr val="808080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808080"/>
                </a:solidFill>
                <a:latin typeface="Gill Sans MT"/>
              </a:rPr>
              <a:t>Kernel awareness plugins for debugging systems using RTOS</a:t>
            </a:r>
            <a:endParaRPr b="0" lang="en-US" sz="1500" spc="-1" strike="noStrike">
              <a:solidFill>
                <a:srgbClr val="808080"/>
              </a:solidFill>
              <a:latin typeface="Gill Sans MT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808080"/>
                </a:solidFill>
                <a:latin typeface="Gill Sans MT"/>
              </a:rPr>
              <a:t>Macro system</a:t>
            </a:r>
            <a:endParaRPr b="0" lang="en-US" sz="1800" spc="-1" strike="noStrike">
              <a:solidFill>
                <a:srgbClr val="808080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808080"/>
                </a:solidFill>
                <a:latin typeface="Gill Sans MT"/>
              </a:rPr>
              <a:t>C like macro system extends debugger capabilities</a:t>
            </a:r>
            <a:endParaRPr b="0" lang="en-US" sz="1500" spc="-1" strike="noStrike">
              <a:solidFill>
                <a:srgbClr val="808080"/>
              </a:solidFill>
              <a:latin typeface="Gill Sans MT"/>
            </a:endParaRPr>
          </a:p>
        </p:txBody>
      </p:sp>
      <p:pic>
        <p:nvPicPr>
          <p:cNvPr id="543" name="Picture 2" descr="O:\My Documents\Marketing\marketing material\Screen shots\C-SPY.tif"/>
          <p:cNvPicPr/>
          <p:nvPr/>
        </p:nvPicPr>
        <p:blipFill>
          <a:blip r:embed="rId1"/>
          <a:stretch/>
        </p:blipFill>
        <p:spPr>
          <a:xfrm>
            <a:off x="4229280" y="2590920"/>
            <a:ext cx="4624200" cy="2795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e8637"/>
                </a:solidFill>
                <a:latin typeface="Gill Sans MT"/>
              </a:rPr>
              <a:t>Hardware debug suppor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grpSp>
        <p:nvGrpSpPr>
          <p:cNvPr id="545" name="Group 6"/>
          <p:cNvGrpSpPr/>
          <p:nvPr/>
        </p:nvGrpSpPr>
        <p:grpSpPr>
          <a:xfrm>
            <a:off x="2135160" y="2819520"/>
            <a:ext cx="5396040" cy="2447640"/>
            <a:chOff x="2135160" y="2819520"/>
            <a:chExt cx="5396040" cy="2447640"/>
          </a:xfrm>
        </p:grpSpPr>
        <p:pic>
          <p:nvPicPr>
            <p:cNvPr id="546" name="Picture 2" descr="http://ftp.iar.se/WWWfiles/Corporate_design_guide/Kit_images/Web/J-Trace/IAR_JTRACE_CM3.jpg"/>
            <p:cNvPicPr/>
            <p:nvPr/>
          </p:nvPicPr>
          <p:blipFill>
            <a:blip r:embed="rId1"/>
            <a:srcRect l="6777" t="11567" r="2407" b="26843"/>
            <a:stretch/>
          </p:blipFill>
          <p:spPr>
            <a:xfrm>
              <a:off x="2135160" y="2819520"/>
              <a:ext cx="5396040" cy="24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Rectangle 4"/>
            <p:cNvSpPr/>
            <p:nvPr/>
          </p:nvSpPr>
          <p:spPr>
            <a:xfrm>
              <a:off x="2135160" y="2819520"/>
              <a:ext cx="5396040" cy="244764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"/>
          <p:cNvSpPr txBox="1"/>
          <p:nvPr/>
        </p:nvSpPr>
        <p:spPr>
          <a:xfrm>
            <a:off x="642600" y="2500200"/>
            <a:ext cx="399564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ETM Trace suppor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Full instruction trace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Complex start and stop triggers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IAR J-Trace probe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JTAG/SWD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SWO trace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IAR J-Link and IAR J-Link Ultra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Third party probes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Images are exportable to third party debugger systems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Direct flash erase and download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857480" y="2500200"/>
            <a:ext cx="399564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vailable hardware drivers: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IAT I-jet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IAR J-Link and IAR J-Trace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RDI (Remote Debug Interface)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Macgraigor JTAG probes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GDB server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ST-LINK JTAG probe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ST-LINK V2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TI Stellaris FTDI JTAG interface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XDS100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Angel debug monitor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P&amp;E micro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IAR ROM-monitor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1:55:24Z</dcterms:created>
  <dc:creator>Marie Gylldorff</dc:creator>
  <dc:description/>
  <dc:language>en-US</dc:language>
  <cp:lastModifiedBy>Mats Pettersson</cp:lastModifiedBy>
  <dcterms:modified xsi:type="dcterms:W3CDTF">2012-10-28T18:12:59Z</dcterms:modified>
  <cp:revision>235</cp:revision>
  <dc:subject/>
  <dc:title>Slide 1</dc:title>
</cp:coreProperties>
</file>